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722-8821-4056-9EC4-39A43CA2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C5E-CB60-4B01-BE64-30222791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8FD-8A68-4E17-9C97-0CDC62DE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EBC-BC86-4041-8C62-A971ADAA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5E82-5E65-4CB2-9676-674C3C46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B95E-5BA4-4409-BF4D-1F6941A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11CE-01B3-461C-83A7-2D69E17F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C5F2-85E0-4F84-86C4-5887D0EE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974-1D9F-41A7-B294-71AF846D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B4FD-0FA8-454C-BBE5-D12E2D8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D8F8-0853-48F9-90FF-D8F680C3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708-7F2C-44A4-AE89-7E3F017D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B354-D048-40FB-80A5-DC551E8B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1CA-3E79-4B7A-8511-7017EB2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D124-3DE6-4087-8051-10C6B53F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6955-9E42-4EDE-8E99-DD817E1C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0EAD-0ABC-44A6-A2B6-250B4B50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AD1-0499-4952-8EC1-61746C6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673-C88F-492B-A66D-B580110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7C1-B538-42DA-9CAC-C5F1681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BBB-69B5-49EF-9D57-255A04CB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DE7-D7B2-4D1B-8874-1907757D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463-737E-426A-9901-4B07CFC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91B-B883-4944-A646-B83B6CED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6346-C787-47B7-B22F-D4F7F59BF5A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5295-EADC-4815-A18D-218EDAFFAB7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cntv.cn/china/20100419/104713.s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ews.cntv.cn/china/20100416/102242.s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cntv.cn/china/20100420/107594.s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ews.cntv.cn/china/20100420/107663.s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ews.cntv.cn/china/20100420/108072.s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ws.cctv.com/china/20100420/107936.s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s.cntv.cn/china/20100420/107658.s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9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情系玉树  大爱无疆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考好二模  报效祖国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743200" y="57340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高三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级与玉树人民心连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玉树倒塌，不倒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后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7667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生命玉树，顽强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后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7667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流血玉树，热血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后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69534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哭泣玉树，流泪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后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745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9280" y="2852640"/>
            <a:ext cx="8785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灾难来临，我们决不倒下！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玉树，党、人民和你们在一起！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44640"/>
            <a:ext cx="6012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玉树，我们要付出百倍努力！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00480"/>
            <a:ext cx="60008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Black"/>
              </a:rPr>
              <a:t>玉树，我们在呼唤你！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43080"/>
            <a:ext cx="6453360" cy="47149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956720" y="1484280"/>
            <a:ext cx="502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争分夺秒，为了生命的呼唤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Black"/>
              </a:rPr>
              <a:t>玉树，我们是一家人！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"/>
          <p:cNvSpPr/>
          <p:nvPr/>
        </p:nvSpPr>
        <p:spPr>
          <a:xfrm>
            <a:off x="7956720" y="2068560"/>
            <a:ext cx="502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听，高原上最美妙的声音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16280"/>
            <a:ext cx="66103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Black"/>
              </a:rPr>
              <a:t>玉树，有你我，不孤独！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/>
          <p:nvPr/>
        </p:nvSpPr>
        <p:spPr>
          <a:xfrm>
            <a:off x="7956720" y="2133720"/>
            <a:ext cx="50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记住他，好人黄福荣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43080"/>
            <a:ext cx="64533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美丽玉树，美丽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7632720" cy="4869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前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Black"/>
              </a:rPr>
              <a:t>玉树，汉藏一家亲！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2019240"/>
            <a:ext cx="50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 Black"/>
              </a:rPr>
              <a:t>护士张淑英，他就是我的孩子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3360"/>
            <a:ext cx="64292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玉树，我们和你们在一起！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7308720" y="2492280"/>
            <a:ext cx="50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强震袭来，举国相助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624040"/>
            <a:ext cx="532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280" y="2707920"/>
            <a:ext cx="896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玉树，我们能为你做些什么？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为死难同胞默哀三分钟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我们的感触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我们是一家人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祖国的强大，人民的力量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好人一生平安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我们要学会坚强、勇敢、团结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我们是幸福和幸运的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感动之余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努力学习，建造震不倒的房屋与精神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有心救灾，送去遥远的祝福和祈祷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考好高考，表达最真诚的慰问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报效民族、报恩祖国、报答父母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 Black"/>
              </a:rPr>
              <a:t>老师的话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71640" y="2637000"/>
            <a:ext cx="748800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103"/>
                </a:solidFill>
                <a:latin typeface="宋体"/>
              </a:rPr>
              <a:t>我代表西北人民感谢全国人民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e103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前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7451640" cy="5284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68360" y="18900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玉树风情，魅力中国</a:t>
            </a:r>
            <a:endParaRPr b="0" lang="en-US" sz="6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蓝天白云，和谐安详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前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1652760"/>
            <a:ext cx="7596360" cy="5186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改革之春，染绿玉树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前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1657440"/>
            <a:ext cx="76676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骏马草原，可爱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前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1909800"/>
            <a:ext cx="69534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11280" y="260280"/>
            <a:ext cx="36003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然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4508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2010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年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月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14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日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点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49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分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玉树地震，中国震撼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后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730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Black"/>
              </a:rPr>
              <a:t>废墟玉树，多难中国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8244000" y="3068640"/>
            <a:ext cx="50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 Black"/>
              </a:rPr>
              <a:t>地震后的玉树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47880"/>
            <a:ext cx="69534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42:5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21:54Z</dcterms:modified>
  <cp:revision>18</cp:revision>
  <dc:subject>主题班会课件(分28大类): http://shop62905894.taobao.com</dc:subject>
  <dc:title>主题班会课件(分28大类): http://shop62905894.taobao.com</dc:title>
</cp:coreProperties>
</file>